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545D-74D8-41E7-A72F-11DE9D47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BDA7-C303-4016-8DE4-E30B9098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1C72-4AE2-454D-BC3F-D2F7CCD8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40EB-0D6F-4512-92CD-F3FE4F45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8F52-75EE-481A-A5EC-AF0A3260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1632-AFD8-4400-87A3-F0EA7178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23A-485D-4DE2-8141-BEA4DEA8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AA6D-F1F0-4390-B042-DD99A01C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C011-F5FE-46BE-BD7E-084F69B0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E821-B4A9-4321-8A31-740D13E7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675A-B95C-4669-9302-6A6DD865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C7A-F6C5-4092-9201-8CC8D12F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E1CC-E45B-4924-8B18-189DE99E2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Cho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28195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1: What is Econom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2: Making Economic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3: U.S.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4: Promoting Economic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429000" y="533520"/>
            <a:ext cx="205740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5410080"/>
            <a:ext cx="205740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289548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281952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048120"/>
            <a:ext cx="2057400" cy="12189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34320" y="0"/>
            <a:ext cx="2209680" cy="144792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3124080"/>
            <a:ext cx="1904760" cy="1015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800200">
            <a:off x="2095200" y="1180800"/>
            <a:ext cx="609480" cy="1904760"/>
          </a:xfrm>
          <a:prstGeom prst="downArrow">
            <a:avLst>
              <a:gd name="adj1" fmla="val 32287"/>
              <a:gd name="adj2" fmla="val 963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3821000">
            <a:off x="1409400" y="799560"/>
            <a:ext cx="609480" cy="1904760"/>
          </a:xfrm>
          <a:prstGeom prst="downArrow">
            <a:avLst>
              <a:gd name="adj1" fmla="val 32287"/>
              <a:gd name="adj2" fmla="val 963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800200">
            <a:off x="6133680" y="4305240"/>
            <a:ext cx="609840" cy="1905120"/>
          </a:xfrm>
          <a:prstGeom prst="downArrow">
            <a:avLst>
              <a:gd name="adj1" fmla="val 32287"/>
              <a:gd name="adj2" fmla="val 963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3821000">
            <a:off x="6591240" y="4685760"/>
            <a:ext cx="609480" cy="1905120"/>
          </a:xfrm>
          <a:prstGeom prst="downArrow">
            <a:avLst>
              <a:gd name="adj1" fmla="val 32287"/>
              <a:gd name="adj2" fmla="val 96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7686600">
            <a:off x="6209640" y="1180800"/>
            <a:ext cx="609480" cy="1904760"/>
          </a:xfrm>
          <a:prstGeom prst="downArrow">
            <a:avLst>
              <a:gd name="adj1" fmla="val 32287"/>
              <a:gd name="adj2" fmla="val 963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8544200">
            <a:off x="5600520" y="1562040"/>
            <a:ext cx="609840" cy="1905120"/>
          </a:xfrm>
          <a:prstGeom prst="downArrow">
            <a:avLst>
              <a:gd name="adj1" fmla="val 32287"/>
              <a:gd name="adj2" fmla="val 963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9600800">
            <a:off x="1905120" y="4648320"/>
            <a:ext cx="609480" cy="1904760"/>
          </a:xfrm>
          <a:prstGeom prst="downArrow">
            <a:avLst>
              <a:gd name="adj1" fmla="val 32287"/>
              <a:gd name="adj2" fmla="val 963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53600">
            <a:off x="2361600" y="4343400"/>
            <a:ext cx="609480" cy="1905120"/>
          </a:xfrm>
          <a:prstGeom prst="downArrow">
            <a:avLst>
              <a:gd name="adj1" fmla="val 32287"/>
              <a:gd name="adj2" fmla="val 96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685800"/>
            <a:ext cx="1219320" cy="380880"/>
          </a:xfrm>
          <a:prstGeom prst="leftArrow">
            <a:avLst>
              <a:gd name="adj1" fmla="val 50000"/>
              <a:gd name="adj2" fmla="val 800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690840" y="263520"/>
            <a:ext cx="9172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V: Promoting 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Productivity (output v. in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Spe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Division of Labor (Assembly L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Investment in Human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Economic Inter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Mass Production/Fa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Technology &amp;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Robo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In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Education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Big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Agri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I.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Blue Collar v. White Col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Unskilled v. Ski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14000" y="376200"/>
            <a:ext cx="4618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Government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La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inimum 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ice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503640" y="414360"/>
            <a:ext cx="8138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: What is Economic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Choices (Goods &amp; Servi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W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W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Limite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Unlimited W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Scar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Rewards &amp;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Immediate Gra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Trade-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Opportunity Cos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5335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MI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198108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533520"/>
            <a:ext cx="31244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429000"/>
            <a:ext cx="8229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505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s all Societies/Producers must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191120"/>
            <a:ext cx="8380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4191120"/>
            <a:ext cx="83844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4191120"/>
            <a:ext cx="8380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4267080"/>
            <a:ext cx="83844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257800"/>
            <a:ext cx="19810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5257800"/>
            <a:ext cx="19810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5257800"/>
            <a:ext cx="198144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0" y="5257800"/>
            <a:ext cx="19810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905120"/>
            <a:ext cx="1905120" cy="1218960"/>
          </a:xfrm>
          <a:custGeom>
            <a:avLst/>
            <a:gdLst>
              <a:gd name="textAreaLeft" fmla="*/ 255240 w 1905120"/>
              <a:gd name="textAreaRight" fmla="*/ 1649880 w 190512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48520" y="1981080"/>
            <a:ext cx="1752480" cy="1143000"/>
          </a:xfrm>
          <a:custGeom>
            <a:avLst/>
            <a:gdLst>
              <a:gd name="textAreaLeft" fmla="*/ 234720 w 1752480"/>
              <a:gd name="textAreaRight" fmla="*/ 1517760 w 175248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457200"/>
            <a:ext cx="8294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Producers &amp;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ow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or Wh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Factors of Production  (PRODUCTI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nd, Natural Resources, Rene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bor, wage, 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ntrepreneu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sources, Wants,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st/Bene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90720" y="533520"/>
            <a:ext cx="7010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of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1676520"/>
            <a:ext cx="1600200" cy="1828800"/>
          </a:xfrm>
          <a:prstGeom prst="downArrowCallout">
            <a:avLst>
              <a:gd name="adj1" fmla="val 25002"/>
              <a:gd name="adj2" fmla="val 25000"/>
              <a:gd name="adj3" fmla="val 19048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1676520"/>
            <a:ext cx="1600200" cy="1828800"/>
          </a:xfrm>
          <a:prstGeom prst="downArrowCallout">
            <a:avLst>
              <a:gd name="adj1" fmla="val 25002"/>
              <a:gd name="adj2" fmla="val 25000"/>
              <a:gd name="adj3" fmla="val 19048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1676520"/>
            <a:ext cx="1600200" cy="1828800"/>
          </a:xfrm>
          <a:prstGeom prst="downArrowCallout">
            <a:avLst>
              <a:gd name="adj1" fmla="val 25002"/>
              <a:gd name="adj2" fmla="val 25000"/>
              <a:gd name="adj3" fmla="val 19048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676520"/>
            <a:ext cx="1600200" cy="1828800"/>
          </a:xfrm>
          <a:prstGeom prst="downArrowCallout">
            <a:avLst>
              <a:gd name="adj1" fmla="val 25002"/>
              <a:gd name="adj2" fmla="val 25000"/>
              <a:gd name="adj3" fmla="val 19048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18288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PRENU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962520"/>
            <a:ext cx="1600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3962520"/>
            <a:ext cx="1600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3962520"/>
            <a:ext cx="1600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3962520"/>
            <a:ext cx="1600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3880" y="347652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79440" y="350532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36840" y="34290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562720"/>
            <a:ext cx="1600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5562720"/>
            <a:ext cx="1600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5562720"/>
            <a:ext cx="1600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0" y="5562720"/>
            <a:ext cx="1600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82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47520" y="4913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7800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495288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118800" y="395280"/>
            <a:ext cx="637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I: Making Economic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ision-Mak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 th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ke a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12000" y="609480"/>
            <a:ext cx="4345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rade-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Opportunity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ost v.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ix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ariable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Margin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Cost Benefi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age 5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195480" y="450720"/>
            <a:ext cx="8193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III: United States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so Known 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Private Owners, Private Property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Government Ow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Supply v. Demand,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Freedom, No Gov’t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Profit Mo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Consumer Sovereign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Voluntary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Laissez-F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Fou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Adam Smith “The Wealth of Nati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John Key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2400" y="730080"/>
            <a:ext cx="6970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How do we measure our econom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Gross Domestic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tandard of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ational De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U.S. v.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U.S. v.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U.S. v. Mex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What does the economy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ircular Flow of Economic Activit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onsumer Sector/Factor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usiness Sector/Product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overnment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Foreign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9:39:59Z</dcterms:created>
  <dc:creator>Chatham Central</dc:creator>
  <dc:description/>
  <dc:language>en-US</dc:language>
  <cp:lastModifiedBy>Chatham Central</cp:lastModifiedBy>
  <dcterms:modified xsi:type="dcterms:W3CDTF">2009-04-29T18:47:04Z</dcterms:modified>
  <cp:revision>2</cp:revision>
  <dc:subject/>
  <dc:title>Goal 7 Making Choices</dc:title>
</cp:coreProperties>
</file>